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chimes.wav" ContentType="audio/x-wav"/>
  <Override PartName="/ppt/media/image16.jpeg" ContentType="image/jpeg"/>
  <Override PartName="/ppt/media/image33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9.png" ContentType="image/png"/>
  <Override PartName="/ppt/media/image3.png" ContentType="image/png"/>
  <Override PartName="/ppt/media/image17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E554-6871-497F-B307-0833F39CB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C6C1-3539-4E93-9377-83E33B1D92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bc.edu/bc_org/avp/cas/his/CoreArt/art/neocl_dav_beli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0087-B824-47BF-BF47-D70F37F956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etmuseum.org/toah/ho/08/eusb/hob_31.67.8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2EB0-FA35-4452-BAC6-E705B172E2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959-0248-480A-B54C-324B14D0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0DB5-E3FA-4E7B-ADED-904B5D47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A474-F189-4944-81DF-9019A078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9138-0EDA-48AE-9A25-FC4D6BB1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414F-FA43-4C86-961B-C3F5A761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21B1-C0FC-4373-B1D2-CC08AEA5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1777-E5DA-4B31-8C40-2D886EAF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5304-ABBE-41E3-BAC1-AEE52CEC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BB0A-14A4-4970-A090-AE0DB929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A159-B92B-4A13-998F-D0B31E75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6DF1-DAB7-4E14-A23D-3F4E873D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E6A-E023-4228-90F5-1B4C18B9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8225-5F43-44B2-A807-8192267B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9616-09EF-4223-99CD-EB9F0DF3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B900-B689-4473-A4F8-336562BC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A51D-FFE5-4603-BCCB-AB6E44C1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C4DB-487B-451E-8462-A48702B8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8CA1-8C12-4CE6-B970-154F55EA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DCE-BCDC-4EF0-805D-AD9767C0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6E3-4F47-42EE-BDE6-6FEBF662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4D73-B271-4B6B-A368-11D42029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93CA-25F7-4752-A6F7-D0B0EB2D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8DA2-C4C4-438A-88E4-491F1870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302-0E49-4DD4-9567-ADD51260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2A1A-74A6-43B6-BF40-D868D0F45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D755-3034-48E7-A029-D0925ED018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hyperlink" Target="http://www.metmuseum.org/toah/ho/06/eusb/hob_17.190.1674-1712.htm" TargetMode="External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4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alibri"/>
              </a:rPr>
              <a:t>Chapter 11 Section 1</a:t>
            </a:r>
            <a:endParaRPr b="0" lang="en-US" sz="40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yzantium Becomes the New Rom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mosaic of Justinian"/>
          <p:cNvPicPr/>
          <p:nvPr/>
        </p:nvPicPr>
        <p:blipFill>
          <a:blip r:embed="rId1"/>
          <a:stretch/>
        </p:blipFill>
        <p:spPr>
          <a:xfrm>
            <a:off x="533520" y="1066680"/>
            <a:ext cx="1428480" cy="17719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0" y="5335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27 –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Justinian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becomes ru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 the eastern emp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04920" y="27846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Justinian 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Ruled 527-565 A.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2666880" y="533520"/>
            <a:ext cx="6477120" cy="1313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What did Justinian accomplish during his reig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Conquered new lands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and retook former Roman lands so that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is new Byzantine empire almost as big as Rome’s had be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10" descr="http://www.bc.edu/bc_org/avp/cas/his/CoreArt/art/resourcesb/dav_belis.jpg"/>
          <p:cNvPicPr/>
          <p:nvPr/>
        </p:nvPicPr>
        <p:blipFill>
          <a:blip r:embed="rId2"/>
          <a:stretch/>
        </p:blipFill>
        <p:spPr>
          <a:xfrm>
            <a:off x="6062760" y="4043520"/>
            <a:ext cx="3081240" cy="28144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1"/>
          <p:cNvSpPr/>
          <p:nvPr/>
        </p:nvSpPr>
        <p:spPr>
          <a:xfrm>
            <a:off x="2514600" y="1523880"/>
            <a:ext cx="662940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elisari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66ff"/>
                </a:solidFill>
                <a:latin typeface="Times New Roman"/>
              </a:rPr>
              <a:t>was Emperor Justinian’s head general and one of the greatest military commanders of his time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e spearheaded Byzantium's attempts to rebuild the Roman Empire, retaking North Africa from the Vandals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is very successes, however, made him many enemies.  Incriminated in a plot against Justinian, his eyes were put out on the Emperor's orders in 561 A.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ording to a historian nam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copiu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lisarius was stripped of all hi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ssessions and was reduced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gging in the stree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 Byzantiu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895480" y="6340320"/>
            <a:ext cx="3063960" cy="5202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elisarius,” by Jacques-Louis David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rench Neoclassical painting, 178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14" descr="Belisarius"/>
          <p:cNvPicPr/>
          <p:nvPr/>
        </p:nvPicPr>
        <p:blipFill>
          <a:blip r:embed="rId3"/>
          <a:stretch/>
        </p:blipFill>
        <p:spPr>
          <a:xfrm>
            <a:off x="380880" y="3809880"/>
            <a:ext cx="1828800" cy="16239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5"/>
          <p:cNvSpPr/>
          <p:nvPr/>
        </p:nvSpPr>
        <p:spPr>
          <a:xfrm>
            <a:off x="304920" y="54864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elisari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16" descr="[Map of the Mediterranean&#10;world in 565]"/>
          <p:cNvPicPr/>
          <p:nvPr/>
        </p:nvPicPr>
        <p:blipFill>
          <a:blip r:embed="rId4"/>
          <a:stretch/>
        </p:blipFill>
        <p:spPr>
          <a:xfrm>
            <a:off x="2590920" y="1600200"/>
            <a:ext cx="6553080" cy="5257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7" descr="[Map of the Mediterranean world in&#10;530]"/>
          <p:cNvPicPr/>
          <p:nvPr/>
        </p:nvPicPr>
        <p:blipFill>
          <a:blip r:embed="rId5"/>
          <a:stretch/>
        </p:blipFill>
        <p:spPr>
          <a:xfrm>
            <a:off x="2590920" y="1600200"/>
            <a:ext cx="6553080" cy="5257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8" descr="[Map of the Mediterranean&#10;world in 565]"/>
          <p:cNvPicPr/>
          <p:nvPr/>
        </p:nvPicPr>
        <p:blipFill>
          <a:blip r:embed="rId6"/>
          <a:stretch/>
        </p:blipFill>
        <p:spPr>
          <a:xfrm>
            <a:off x="2590920" y="1600200"/>
            <a:ext cx="6553080" cy="5257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0" descr="\\Library\shared\Byzantine map1.jpg"/>
          <p:cNvPicPr/>
          <p:nvPr/>
        </p:nvPicPr>
        <p:blipFill>
          <a:blip r:embed="rId7"/>
          <a:stretch/>
        </p:blipFill>
        <p:spPr>
          <a:xfrm>
            <a:off x="2514600" y="1600200"/>
            <a:ext cx="6629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\\Library\shared\Byzantine map1.jpg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4103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\\Library\shared\Byzantine map2.jpg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7"/>
          <p:cNvSpPr/>
          <p:nvPr/>
        </p:nvSpPr>
        <p:spPr>
          <a:xfrm>
            <a:off x="0" y="0"/>
            <a:ext cx="39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YZANTINE W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om 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380880" y="3029040"/>
            <a:ext cx="3124440" cy="31456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at can you infer about Constantinople’s location that made it a strategic location to benefit from Trad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244944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6384960" y="6613560"/>
            <a:ext cx="275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P Design of T. Loessin; Akins H.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13" descr="Justinian the Great"/>
          <p:cNvPicPr/>
          <p:nvPr/>
        </p:nvPicPr>
        <p:blipFill>
          <a:blip r:embed="rId3"/>
          <a:stretch/>
        </p:blipFill>
        <p:spPr>
          <a:xfrm>
            <a:off x="228600" y="762120"/>
            <a:ext cx="346392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0" y="0"/>
            <a:ext cx="39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YZANTINE W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om 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\\Library\shared\Byzantine map3.jpg"/>
          <p:cNvPicPr/>
          <p:nvPr/>
        </p:nvPicPr>
        <p:blipFill>
          <a:blip r:embed="rId1"/>
          <a:stretch/>
        </p:blipFill>
        <p:spPr>
          <a:xfrm>
            <a:off x="0" y="2460600"/>
            <a:ext cx="5880240" cy="4397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\\Library\shared\Byzantine map2.jpg"/>
          <p:cNvPicPr/>
          <p:nvPr/>
        </p:nvPicPr>
        <p:blipFill>
          <a:blip r:embed="rId2"/>
          <a:stretch/>
        </p:blipFill>
        <p:spPr>
          <a:xfrm>
            <a:off x="4038480" y="0"/>
            <a:ext cx="2801880" cy="3809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\\Library\shared\Byzantine map3.jpg"/>
          <p:cNvPicPr/>
          <p:nvPr/>
        </p:nvPicPr>
        <p:blipFill>
          <a:blip r:embed="rId3"/>
          <a:stretch/>
        </p:blipFill>
        <p:spPr>
          <a:xfrm>
            <a:off x="0" y="2460600"/>
            <a:ext cx="5880240" cy="43974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0"/>
          <p:cNvSpPr/>
          <p:nvPr/>
        </p:nvSpPr>
        <p:spPr>
          <a:xfrm>
            <a:off x="2449440" y="72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12" descr="http://www.metmuseum.org/explore/Byzantium/byzim_6a.jpg"/>
          <p:cNvPicPr/>
          <p:nvPr/>
        </p:nvPicPr>
        <p:blipFill>
          <a:blip r:embed="rId4"/>
          <a:stretch/>
        </p:blipFill>
        <p:spPr>
          <a:xfrm>
            <a:off x="7574040" y="0"/>
            <a:ext cx="1569960" cy="2133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http://www.metmuseum.org/explore/Byzantium/byzim_3a.jpg"/>
          <p:cNvPicPr/>
          <p:nvPr/>
        </p:nvPicPr>
        <p:blipFill>
          <a:blip r:embed="rId5"/>
          <a:stretch/>
        </p:blipFill>
        <p:spPr>
          <a:xfrm>
            <a:off x="6172200" y="4648320"/>
            <a:ext cx="2971800" cy="19508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4"/>
          <p:cNvSpPr/>
          <p:nvPr/>
        </p:nvSpPr>
        <p:spPr>
          <a:xfrm>
            <a:off x="1746360" y="112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Picture 16" descr="http://www.metmuseum.org/explore/Byzantium/byzim_19a.jpg"/>
          <p:cNvPicPr/>
          <p:nvPr/>
        </p:nvPicPr>
        <p:blipFill>
          <a:blip r:embed="rId6"/>
          <a:stretch/>
        </p:blipFill>
        <p:spPr>
          <a:xfrm>
            <a:off x="1143000" y="838080"/>
            <a:ext cx="1676520" cy="14288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7"/>
          <p:cNvSpPr/>
          <p:nvPr/>
        </p:nvSpPr>
        <p:spPr>
          <a:xfrm>
            <a:off x="1746360" y="65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19" descr="http://www.metmuseum.org/explore/Byzantium/byzim_27a.jpg"/>
          <p:cNvPicPr/>
          <p:nvPr/>
        </p:nvPicPr>
        <p:blipFill>
          <a:blip r:embed="rId7"/>
          <a:stretch/>
        </p:blipFill>
        <p:spPr>
          <a:xfrm>
            <a:off x="6767640" y="2362320"/>
            <a:ext cx="2074680" cy="21333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20"/>
          <p:cNvSpPr/>
          <p:nvPr/>
        </p:nvSpPr>
        <p:spPr>
          <a:xfrm>
            <a:off x="6384960" y="6613560"/>
            <a:ext cx="275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P Design of T. Loessin; Akins H.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22" descr="http://www.metmuseum.org/toah/images/h2/h2_17.190.1674-1712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733920" y="0"/>
            <a:ext cx="3657600" cy="2362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4" descr="http://www.metmuseum.org/toah/images/hb/hb_31.67.8.jpg"/>
          <p:cNvPicPr/>
          <p:nvPr/>
        </p:nvPicPr>
        <p:blipFill>
          <a:blip r:embed="rId10"/>
          <a:stretch/>
        </p:blipFill>
        <p:spPr>
          <a:xfrm>
            <a:off x="0" y="2438280"/>
            <a:ext cx="4114800" cy="44197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25"/>
          <p:cNvSpPr/>
          <p:nvPr/>
        </p:nvSpPr>
        <p:spPr>
          <a:xfrm>
            <a:off x="4114800" y="2514600"/>
            <a:ext cx="1905120" cy="436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ery typ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yzantine Ar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00"/>
                </a:solidFill>
                <a:latin typeface="Arial"/>
              </a:rPr>
              <a:t>Church adornments 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00"/>
                </a:solidFill>
                <a:latin typeface="Arial"/>
              </a:rPr>
              <a:t>Religious ic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Arial"/>
              </a:rPr>
              <a:t>Lef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00"/>
                </a:solidFill>
                <a:latin typeface="Arial"/>
              </a:rPr>
              <a:t>Icon depicting</a:t>
            </a:r>
            <a:r>
              <a:rPr b="1" lang="en-US" sz="1600" spc="-1" strike="noStrike">
                <a:solidFill>
                  <a:srgbClr val="cccc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cc00"/>
                </a:solidFill>
                <a:latin typeface="Arial"/>
              </a:rPr>
              <a:t>“Presentation of Christ in the Temple,” Byzantine wood</a:t>
            </a:r>
            <a:br>
              <a:rPr sz="1600"/>
            </a:br>
            <a:r>
              <a:rPr b="0" lang="en-US" sz="1600" spc="-1" strike="noStrike">
                <a:solidFill>
                  <a:srgbClr val="cccc00"/>
                </a:solidFill>
                <a:latin typeface="Arial"/>
              </a:rPr>
              <a:t>painted, with gold-leaf backgroun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30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D:\home\twloessin\School\Units_Chpt Materials\CH11_Byzantine\Theodora.jpg"/>
          <p:cNvPicPr/>
          <p:nvPr/>
        </p:nvPicPr>
        <p:blipFill>
          <a:blip r:embed="rId1"/>
          <a:stretch/>
        </p:blipFill>
        <p:spPr>
          <a:xfrm>
            <a:off x="762120" y="457200"/>
            <a:ext cx="7619760" cy="5624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7"/>
          <p:cNvSpPr/>
          <p:nvPr/>
        </p:nvSpPr>
        <p:spPr>
          <a:xfrm>
            <a:off x="152280" y="6156360"/>
            <a:ext cx="8686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ff"/>
                </a:solidFill>
                <a:latin typeface="MS Reference Sans Serif"/>
              </a:rPr>
              <a:t>“</a:t>
            </a:r>
            <a:r>
              <a:rPr b="0" i="1" lang="en-US" sz="1600" spc="-1" strike="noStrike">
                <a:solidFill>
                  <a:srgbClr val="3333ff"/>
                </a:solidFill>
                <a:latin typeface="MS Reference Sans Serif"/>
              </a:rPr>
              <a:t>Empress Theodora and her attendant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MS Reference Sans Serif"/>
              </a:rPr>
              <a:t>From a collection of mosaics in the presbytery of the Church of San Vitale, Ravenna Italy, ca.547 A.D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The Glories of Constantinople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478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Hippodrome—60,000 seat stadiu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center median of the former Hippodrome racetrack in Constantinople is today a city park in modern-day Istanbul, Turke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8" name="Picture 5" descr="http://www.fordham.edu/halsall/ikon/cp-hippo.gif"/>
          <p:cNvPicPr/>
          <p:nvPr/>
        </p:nvPicPr>
        <p:blipFill>
          <a:blip r:embed="rId1"/>
          <a:stretch/>
        </p:blipFill>
        <p:spPr>
          <a:xfrm>
            <a:off x="5638680" y="1533600"/>
            <a:ext cx="33181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The Glories of Constantinople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agia Soph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Picture 5" descr="\\Library\shared\Constantinople dedication.jpg"/>
          <p:cNvPicPr/>
          <p:nvPr/>
        </p:nvPicPr>
        <p:blipFill>
          <a:blip r:embed="rId1"/>
          <a:stretch/>
        </p:blipFill>
        <p:spPr>
          <a:xfrm>
            <a:off x="4087800" y="1847880"/>
            <a:ext cx="4681440" cy="30574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1828800" y="495288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MS Reference Sans Serif"/>
              </a:rPr>
              <a:t>Theodora and Justinian preside over the dedic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MS Reference Sans Serif"/>
              </a:rPr>
              <a:t>of the magnificent church </a:t>
            </a:r>
            <a:r>
              <a:rPr b="1" i="1" lang="en-US" sz="1800" spc="-1" strike="noStrike">
                <a:solidFill>
                  <a:srgbClr val="ff0000"/>
                </a:solidFill>
                <a:latin typeface="MS Reference Sans Serif"/>
              </a:rPr>
              <a:t>Hagia Sophia</a:t>
            </a:r>
            <a:r>
              <a:rPr b="0" i="1" lang="en-US" sz="1800" spc="-1" strike="noStrike">
                <a:solidFill>
                  <a:srgbClr val="ffffff"/>
                </a:solidFill>
                <a:latin typeface="MS Reference Sans Serif"/>
              </a:rPr>
              <a:t> (</a:t>
            </a:r>
            <a:r>
              <a:rPr b="0" i="1" lang="en-US" sz="1800" spc="-1" strike="noStrike">
                <a:solidFill>
                  <a:srgbClr val="ffff00"/>
                </a:solidFill>
                <a:latin typeface="MS Reference Sans Serif"/>
              </a:rPr>
              <a:t>Church of “Holy Wisdom”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Empire Confronts Enemies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542-about 10,000 people/day died of plagu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stant attacks from Avars, Slavs, and Bulgars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Calibri"/>
              </a:rPr>
              <a:t>1483, Constantinople finally fell the Ottoman Turk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The Church Divides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reat Schism – Division of Roman Catholic and Eastern Orthodox Christianit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Byzantine Art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c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9" name="Picture 2" descr="http://t0.gstatic.com/images?q=tbn:ANd9GcR444cLRL0V-9QOkUl9-KRHjfXvqW8gVqMYc3Lvp_USiqiSmjdD9Q"/>
          <p:cNvPicPr/>
          <p:nvPr/>
        </p:nvPicPr>
        <p:blipFill>
          <a:blip r:embed="rId1"/>
          <a:stretch/>
        </p:blipFill>
        <p:spPr>
          <a:xfrm>
            <a:off x="1143000" y="2590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http://t1.gstatic.com/images?q=tbn:ANd9GcQulXjUEO9fJQOlxZhRTJYQcww4IQWUY-9ZUVWqGmTnjI9Yh8H2"/>
          <p:cNvPicPr/>
          <p:nvPr/>
        </p:nvPicPr>
        <p:blipFill>
          <a:blip r:embed="rId2"/>
          <a:stretch/>
        </p:blipFill>
        <p:spPr>
          <a:xfrm>
            <a:off x="3276720" y="1676520"/>
            <a:ext cx="1885680" cy="2428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http://t2.gstatic.com/images?q=tbn:ANd9GcQ2hF9lnuXMwSWvclHErp29o6rOyr34uJEDgADPpSD3KyZsI17MpQ"/>
          <p:cNvPicPr/>
          <p:nvPr/>
        </p:nvPicPr>
        <p:blipFill>
          <a:blip r:embed="rId3"/>
          <a:stretch/>
        </p:blipFill>
        <p:spPr>
          <a:xfrm>
            <a:off x="5181480" y="2514600"/>
            <a:ext cx="1838520" cy="2486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http://t0.gstatic.com/images?q=tbn:ANd9GcRVFTO1ym6jYgBVVlhPy79K6m3pwqK8oDIV_a3S0QOdKLqaPknk"/>
          <p:cNvPicPr/>
          <p:nvPr/>
        </p:nvPicPr>
        <p:blipFill>
          <a:blip r:embed="rId4"/>
          <a:stretch/>
        </p:blipFill>
        <p:spPr>
          <a:xfrm>
            <a:off x="7010280" y="685800"/>
            <a:ext cx="2133720" cy="2847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http://t3.gstatic.com/images?q=tbn:ANd9GcRCsKUFm9d11E-cTpy2mw4ClIuPOrEq2jJzHaR-aLSWGtYk54y0HQ"/>
          <p:cNvPicPr/>
          <p:nvPr/>
        </p:nvPicPr>
        <p:blipFill>
          <a:blip r:embed="rId5"/>
          <a:stretch/>
        </p:blipFill>
        <p:spPr>
          <a:xfrm>
            <a:off x="3276720" y="4114800"/>
            <a:ext cx="1904760" cy="2759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http://www.personal.psu.edu/nas5104/blogs/ukraine-nicholas_schilling/kyrill_methodi.jpg"/>
          <p:cNvPicPr/>
          <p:nvPr/>
        </p:nvPicPr>
        <p:blipFill>
          <a:blip r:embed="rId6"/>
          <a:stretch/>
        </p:blipFill>
        <p:spPr>
          <a:xfrm>
            <a:off x="7010280" y="3505320"/>
            <a:ext cx="2133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Calibri"/>
              </a:rPr>
              <a:t>Chapter 11 Section 3</a:t>
            </a:r>
            <a:endParaRPr b="0" lang="en-US" sz="60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urkish Empires Rise in Anatol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alibri"/>
              </a:rPr>
              <a:t>The City of Byzantium</a:t>
            </a:r>
            <a:endParaRPr b="0" lang="en-US" sz="40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946160"/>
            <a:ext cx="894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Calibri"/>
              </a:rPr>
              <a:t>Constantine: first Christian Roman emperor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built port city of Byzantium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angers of the Germanic Tribes invading east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ich trade of the east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" name="Picture 19" descr="http://www.metmuseum.org/explore/Byzantium/byzim_1a.jpg"/>
          <p:cNvPicPr/>
          <p:nvPr/>
        </p:nvPicPr>
        <p:blipFill>
          <a:blip r:embed="rId1"/>
          <a:stretch/>
        </p:blipFill>
        <p:spPr>
          <a:xfrm>
            <a:off x="6553080" y="4876920"/>
            <a:ext cx="167652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Calibri"/>
              </a:rPr>
              <a:t>The Turks</a:t>
            </a:r>
            <a:endParaRPr b="0" lang="en-US" sz="60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946160"/>
            <a:ext cx="894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omadic herders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Roamed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Anatolia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(modern Turkey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Converted to Islam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ncorporated into Abbasid Empir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Calibri"/>
              </a:rPr>
              <a:t>The Mamelukes</a:t>
            </a:r>
            <a:endParaRPr b="0" lang="en-US" sz="60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946160"/>
            <a:ext cx="894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bbasids noticed military skills of Turk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ought/raised Turk child slav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se slaves=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mameluk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Gained power in Baghda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Picture 5" descr="http://upload.wikimedia.org/wikipedia/commons/thumb/c/c8/Mameluke-in-Full-Armour.jpg/300px-Mameluke-in-Full-Armour.jpg"/>
          <p:cNvPicPr/>
          <p:nvPr/>
        </p:nvPicPr>
        <p:blipFill>
          <a:blip r:embed="rId1"/>
          <a:stretch/>
        </p:blipFill>
        <p:spPr>
          <a:xfrm>
            <a:off x="6973920" y="2646360"/>
            <a:ext cx="1981080" cy="2900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http://upload.wikimedia.org/wikipedia/commons/thumb/b/b3/Mamluks1279.png/250px-Mamluks1279.png"/>
          <p:cNvPicPr/>
          <p:nvPr/>
        </p:nvPicPr>
        <p:blipFill>
          <a:blip r:embed="rId2"/>
          <a:stretch/>
        </p:blipFill>
        <p:spPr>
          <a:xfrm>
            <a:off x="2133720" y="4648320"/>
            <a:ext cx="3504960" cy="213048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5791320" y="5715000"/>
            <a:ext cx="2438280" cy="825480"/>
          </a:xfrm>
          <a:prstGeom prst="rect">
            <a:avLst/>
          </a:prstGeom>
          <a:solidFill>
            <a:srgbClr val="009999"/>
          </a:solidFill>
          <a:ln w="47520">
            <a:solidFill>
              <a:srgbClr val="00006b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meluke Sultan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Turkic Art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pic>
        <p:nvPicPr>
          <p:cNvPr id="245" name="Picture 4" descr="http://www.istanbul-travel.net/images/turkish-carpet.jpg"/>
          <p:cNvPicPr/>
          <p:nvPr/>
        </p:nvPicPr>
        <p:blipFill>
          <a:blip r:embed="rId1"/>
          <a:stretch/>
        </p:blipFill>
        <p:spPr>
          <a:xfrm>
            <a:off x="228600" y="1523880"/>
            <a:ext cx="2857680" cy="2390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http://upload.wikimedia.org/wikipedia/commons/thumb/4/44/Ali-Baba.jpg/260px-Ali-Baba.jpg"/>
          <p:cNvPicPr/>
          <p:nvPr/>
        </p:nvPicPr>
        <p:blipFill>
          <a:blip r:embed="rId2"/>
          <a:stretch/>
        </p:blipFill>
        <p:spPr>
          <a:xfrm>
            <a:off x="6667560" y="2743200"/>
            <a:ext cx="2476440" cy="3181320"/>
          </a:xfrm>
          <a:prstGeom prst="rect">
            <a:avLst/>
          </a:prstGeom>
          <a:ln w="0">
            <a:noFill/>
          </a:ln>
        </p:spPr>
      </p:pic>
      <p:sp>
        <p:nvSpPr>
          <p:cNvPr id="247" name="Title 1"/>
          <p:cNvSpPr/>
          <p:nvPr/>
        </p:nvSpPr>
        <p:spPr>
          <a:xfrm>
            <a:off x="1066680" y="571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Arab Cul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8" descr="http://upload.wikimedia.org/wikipedia/commons/thumb/d/da/Turkey.Konya050.jpg/250px-Turkey.Konya050.jpg"/>
          <p:cNvPicPr/>
          <p:nvPr/>
        </p:nvPicPr>
        <p:blipFill>
          <a:blip r:embed="rId3"/>
          <a:stretch/>
        </p:blipFill>
        <p:spPr>
          <a:xfrm>
            <a:off x="2209680" y="411480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http://upload.wikimedia.org/wikipedia/commons/thumb/1/1a/Whriling_dervishes%2C_Rumi_Fest_2007.jpg/220px-Whriling_dervishes%2C_Rumi_Fest_2007.jpg"/>
          <p:cNvPicPr/>
          <p:nvPr/>
        </p:nvPicPr>
        <p:blipFill>
          <a:blip r:embed="rId4"/>
          <a:stretch/>
        </p:blipFill>
        <p:spPr>
          <a:xfrm>
            <a:off x="4572000" y="3505320"/>
            <a:ext cx="20955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Calibri"/>
              </a:rPr>
              <a:t>The Rise of the Seljuks</a:t>
            </a:r>
            <a:endParaRPr b="0" lang="en-US" sz="60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bbasid empire crumbl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urks migrated to their lan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eljuk Turks conquered Baghdad 1055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2" name="Picture 5" descr="File:Seljuk Empire locator map.svg"/>
          <p:cNvPicPr/>
          <p:nvPr/>
        </p:nvPicPr>
        <p:blipFill>
          <a:blip r:embed="rId1"/>
          <a:stretch/>
        </p:blipFill>
        <p:spPr>
          <a:xfrm>
            <a:off x="2666880" y="3733920"/>
            <a:ext cx="48006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Calibri"/>
              </a:rPr>
              <a:t>Seljuk Victories</a:t>
            </a:r>
            <a:endParaRPr b="0" lang="en-US" sz="60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461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1075, Seljuks attacked Byzantine Empi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lmost captured Constantinopl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quered Anatolia, Persi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Calibri"/>
              </a:rPr>
              <a:t>The Crusades</a:t>
            </a:r>
            <a:endParaRPr b="0" lang="en-US" sz="60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94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pe Urban II-1095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dered Christian knights drive Turks from Jerusal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1099, Christian armies captured Jerusalem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laughtered Muslims, Jews in c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1187, Turks recaptured Jerusal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458200" cy="692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4495680" y="533520"/>
            <a:ext cx="4648320" cy="790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http://www.metmuseum.org/explore/Byzantium/byzim_1a.jpg"/>
          <p:cNvPicPr/>
          <p:nvPr/>
        </p:nvPicPr>
        <p:blipFill>
          <a:blip r:embed="rId3"/>
          <a:stretch/>
        </p:blipFill>
        <p:spPr>
          <a:xfrm>
            <a:off x="7543800" y="1370160"/>
            <a:ext cx="1600200" cy="1557360"/>
          </a:xfrm>
          <a:prstGeom prst="rect">
            <a:avLst/>
          </a:prstGeom>
          <a:ln w="28440">
            <a:solidFill>
              <a:srgbClr val="cc9900"/>
            </a:solidFill>
            <a:miter/>
          </a:ln>
        </p:spPr>
      </p:pic>
      <p:sp>
        <p:nvSpPr>
          <p:cNvPr id="161" name="Text Box 5"/>
          <p:cNvSpPr/>
          <p:nvPr/>
        </p:nvSpPr>
        <p:spPr>
          <a:xfrm>
            <a:off x="6651720" y="2895480"/>
            <a:ext cx="2492280" cy="3945960"/>
          </a:xfrm>
          <a:prstGeom prst="rect">
            <a:avLst/>
          </a:prstGeom>
          <a:solidFill>
            <a:srgbClr val="ffffff"/>
          </a:solidFill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cc00"/>
                </a:solidFill>
                <a:uFillTx/>
                <a:latin typeface="Arial"/>
              </a:rPr>
              <a:t>Students recall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Emperor Constantine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 moved the capital out of Rome and to the eastern capital of Byzantium, a city he renamed for himself –                                           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Constantinople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The eastern half of the       old Roman empire would now become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he Byzantine Empire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6"/>
          <p:cNvSpPr/>
          <p:nvPr/>
        </p:nvSpPr>
        <p:spPr>
          <a:xfrm>
            <a:off x="5257800" y="3962520"/>
            <a:ext cx="13716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0" y="4153680"/>
            <a:ext cx="3444840" cy="27198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what year did the Western Roman empire finally collap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ue to the invasi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y Germanic trib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914400" y="617220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476 A.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6384960" y="6613560"/>
            <a:ext cx="275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P Design of T. Loessin; Akins H.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11" descr="Cross"/>
          <p:cNvPicPr/>
          <p:nvPr/>
        </p:nvPicPr>
        <p:blipFill>
          <a:blip r:embed="rId4"/>
          <a:stretch/>
        </p:blipFill>
        <p:spPr>
          <a:xfrm>
            <a:off x="8469360" y="4495680"/>
            <a:ext cx="674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2d050"/>
                </a:solidFill>
                <a:latin typeface="Calibri"/>
              </a:rPr>
              <a:t>Constantinople</a:t>
            </a:r>
            <a:endParaRPr b="0" lang="en-US" sz="48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30: Constantinople found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lanned as new capital Empi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Calibri"/>
              </a:rPr>
              <a:t>Eastern empire centered in Constantinopl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eveloped independently of we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Europe c. 530 AD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pic>
        <p:nvPicPr>
          <p:cNvPr id="170" name="Picture 4" descr="[Map of the Mediterranean world in&#10;530]"/>
          <p:cNvPicPr/>
          <p:nvPr/>
        </p:nvPicPr>
        <p:blipFill>
          <a:blip r:embed="rId1"/>
          <a:stretch/>
        </p:blipFill>
        <p:spPr>
          <a:xfrm>
            <a:off x="1523880" y="1447920"/>
            <a:ext cx="65534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Calibri"/>
              </a:rPr>
              <a:t>Justinian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946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mperor of the Eastern Empire 527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ent military to retrieve Roman lands lo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550: Ruled most of land Rome ever ruled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Byzantine Emperors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945800"/>
            <a:ext cx="80280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Calibri"/>
              </a:rPr>
              <a:t>Absolute power/total authority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10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tate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10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hurc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88 Byzantine empero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10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9 assassina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10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13 abandoned throne to live in monasteri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Building a New Rome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st Byzantines 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spoke Greek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not Lati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d050"/>
                </a:solidFill>
                <a:uFillTx/>
                <a:latin typeface="Calibri"/>
              </a:rPr>
              <a:t>Justinian Cod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 work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utlined laws of Byzantine Empi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alibri"/>
              </a:rPr>
              <a:t>The Justinian Code</a:t>
            </a:r>
            <a:endParaRPr b="0" lang="en-US" sz="4400" spc="-1" strike="noStrike">
              <a:solidFill>
                <a:srgbClr val="00fff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92d050"/>
                </a:solidFill>
                <a:uFillTx/>
                <a:latin typeface="Calibri"/>
              </a:rPr>
              <a:t>Code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—5,000 Roman laws useful to new empir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92d050"/>
                </a:solidFill>
                <a:uFillTx/>
                <a:latin typeface="Calibri"/>
              </a:rPr>
              <a:t>Digest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—Summarized Rome’s greatest legal mind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92d050"/>
                </a:solidFill>
                <a:uFillTx/>
                <a:latin typeface="Calibri"/>
              </a:rPr>
              <a:t>Institutes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—Told law students how to use the law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92d050"/>
                </a:solidFill>
                <a:uFillTx/>
                <a:latin typeface="Calibri"/>
              </a:rPr>
              <a:t>Novellae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—New laws passed after 534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31:57Z</dcterms:created>
  <dc:creator>Akron Schools</dc:creator>
  <dc:description/>
  <dc:language>en-US</dc:language>
  <cp:lastModifiedBy>cpagliaro</cp:lastModifiedBy>
  <dcterms:modified xsi:type="dcterms:W3CDTF">2011-03-17T16:53:42Z</dcterms:modified>
  <cp:revision>24</cp:revision>
  <dc:subject/>
  <dc:title>Chapter 11</dc:title>
</cp:coreProperties>
</file>